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E94-FA76-47F9-886E-6FFCF777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E27-B6C5-4B52-BEF9-EA44EBA1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D74-6439-4CFB-AEC1-107C93D1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3E3-E405-44A1-AB75-5212667E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4F3-4D55-40EB-B1BA-0850C0D5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359-8252-4F1C-B0E1-F4D6CF1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3E1-19A9-4C5B-88F3-91283AC2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E85-8584-4FAA-BAA9-195938C5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341-CD74-4A3E-AEDA-A27E07C6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89C-AF11-4180-BA74-8C5581C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DC3-598E-4ED0-A279-B5F756B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CF8-D18E-4292-9BF8-A2D9B80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9DF-EC82-443A-9B8E-C83CDFC4D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ther -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62864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ccurs when the ground is subject to very intense h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ir above the grou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, and 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the air rises, it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cool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the water vapour held within now cond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condensed vapour form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lou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 a very high column (sometimes leads to hai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tually, the moisture in these clouds gets heavy enough to f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628640"/>
            <a:ext cx="8893080" cy="70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actually grabs the water drops and drags them downwar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results in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cool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ir descending (those nasty drafts and gusts of wind you feel just before a stor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in eventually cools the ground and stops the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 stuff from convectional precipi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il (formed when moisture in the cloud reaches high enough altitude);  Thunderstorms;  Torna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936720" y="-38736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628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yclonic precipit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s col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called a “cyclonic storm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often occurs under the Polar Front jet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otation of the earth causes the air to spin in a counter-clockwise direction (giving us our common image of a “spinning” cyclo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259600" cy="54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62864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yclonic precipit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two fro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Cold fro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the leading edge of the cold air pushing into the warm air mas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rm fro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the leading edge of the warm air mass on the other s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of these fronts create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2200" y="4986360"/>
            <a:ext cx="81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 fact: most of the precipitation we receive in Ontario is cycl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300720" cy="321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9736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ir goes up, i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ols dow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ir cools down, water (vapour) condenses more than it evapor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440" y="1407960"/>
            <a:ext cx="61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an rise for a number of reas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357720"/>
            <a:ext cx="70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– It rises because it has absorbed heat from the earth’s surface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c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365720"/>
            <a:ext cx="686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– It rises because a bulldozer mass of cold air is pushing it up (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ycl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349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– It tries to cross an area of high elevation (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ograph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reli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5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56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6286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create a barrier, and this barrier creates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ographic precipi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ir rises, it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o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ir mass itself expands, while the particles squish together and contract (not able to hold as much mois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ensation occurs, and water droplets are released into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se are still light enough to be carried by the ai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628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ore vapour condenses, water droplets become larger and heavi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y are too heavy to remain aloft, they fall 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43732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6286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isture content of air is measur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ve Humid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just a quick and easy way of say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Amount of moisture in the air / moisture capacity) X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61640" cy="441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989800" y="608796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extbook p.1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9800" y="608796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extbook p.1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994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23:21:42Z</dcterms:created>
  <dc:creator>Stefan</dc:creator>
  <dc:description/>
  <dc:language>en-US</dc:language>
  <cp:lastModifiedBy>OCDSB User</cp:lastModifiedBy>
  <dcterms:modified xsi:type="dcterms:W3CDTF">2013-05-02T19:02:13Z</dcterms:modified>
  <cp:revision>112</cp:revision>
  <dc:subject/>
  <dc:title>Weather - Precipitation</dc:title>
</cp:coreProperties>
</file>